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CF37-9329-45EA-8843-2B38911C8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E1B2-B33C-4403-A2FD-EBD669336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02C6-2AFC-4629-9447-147C84970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93BE-EF8F-4A3F-BB0F-47957E93A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2EBD-7EFA-492D-A0EC-952B98503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BD41-5BC4-4026-ACC0-5BDEE4D0B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322-24B4-4360-A1A7-EF92E672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BFD-6F1A-4D87-B297-7AEEE9BF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3BB-252A-4D74-A052-86B7A5E8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72F-6D74-4451-91CE-7FC9779A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079-F9ED-43E6-9131-F0A23681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CF2-3DCE-405F-8132-5FCB0207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6C5-838D-4E3D-A8BB-3834D47C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870-324A-467F-BC18-C37E7CC3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D3A-3A5A-42CE-942B-E52ECF1E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40C-E5B3-4D04-8C88-E79A0AE1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0DCA-E66D-45C8-8FB4-6F6849F2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E47-FD28-4E12-BE64-1D86A221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3F17-0269-4CD6-925D-BE9EFAB54E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e/Triangle_with_notations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verse Kinematic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5DC6-DFCA-4240-AD37-A7C46E9ECE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of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of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8C6A-7DE4-4E7E-A7D3-E58951084B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 Manipul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: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: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FE10-F0DB-453B-98C1-9C15607C5EB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066680" y="2971800"/>
                <a:ext cx="182880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5829480" cy="32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w of cosi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C8DC-4996-4C71-B8D4-1F37028BEC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Image:Triangle with notation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905120"/>
            <a:ext cx="6496200" cy="315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^2 = a^2 + b^2 - 2ab\cos(\gamma) , \,"/>
          <p:cNvPicPr/>
          <p:nvPr/>
        </p:nvPicPr>
        <p:blipFill>
          <a:blip r:embed="rId3"/>
          <a:stretch/>
        </p:blipFill>
        <p:spPr>
          <a:xfrm>
            <a:off x="762120" y="5334120"/>
            <a:ext cx="4114800" cy="47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b^2 = c^2 + a^2 - 2ca\cos(\beta) , \,"/>
          <p:cNvPicPr/>
          <p:nvPr/>
        </p:nvPicPr>
        <p:blipFill>
          <a:blip r:embed="rId4"/>
          <a:stretch/>
        </p:blipFill>
        <p:spPr>
          <a:xfrm>
            <a:off x="990720" y="3200400"/>
            <a:ext cx="3657600" cy="39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a^2 = b^2 + c^2 - 2bc\cos(\alpha) . \,"/>
          <p:cNvPicPr/>
          <p:nvPr/>
        </p:nvPicPr>
        <p:blipFill>
          <a:blip r:embed="rId5"/>
          <a:stretch/>
        </p:blipFill>
        <p:spPr>
          <a:xfrm>
            <a:off x="990720" y="2666880"/>
            <a:ext cx="3276360" cy="3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7086-090D-4154-897B-8DB394C796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3676680" y="380880"/>
            <a:ext cx="5467320" cy="483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4038480" cy="7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1279440" cy="43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4"/>
          <a:stretch/>
        </p:blipFill>
        <p:spPr>
          <a:xfrm>
            <a:off x="762120" y="2362320"/>
            <a:ext cx="1166760" cy="42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380880" y="3429000"/>
                <a:ext cx="3614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 Elkady</cp:lastModifiedBy>
  <dcterms:modified xsi:type="dcterms:W3CDTF">2008-02-28T09:39:29Z</dcterms:modified>
  <cp:revision>73</cp:revision>
  <dc:subject/>
  <dc:title>Robot Kinematics II </dc:title>
</cp:coreProperties>
</file>